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10F3-C239-4AD1-8840-FB4325F219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functions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functions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Suspen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of the load like silt and clay (fine-grained) will float alo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may only be deposited when stream velocity reaches near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urbulence in the water is crucial in holding a load of sedi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usp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load like silt and clay (fine-grained) will float a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only be deposited when stream velocity reaches near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bulence in the water is crucial in holding a load of sed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minerals are transported in dissolved for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are transported in dissolve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 will drop its load wh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olume decr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decr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 will drop its load w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’s volume decreases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y seas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y region with high evap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ce of permeable ro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ding flood wa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’s volume decrease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region with high eva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permeabl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ding floo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’s speed decreases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la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calm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gently sloping pl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’s speed decrease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calm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gently sloping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a river depends on its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a function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olume of w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of water flow (dependent on gradi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a river depends on it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a function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water flow (dependent on gradi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 may erode in 4 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rasion/corra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ad carried by a river will grind against its bed and sid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rocess slowly wears the bed and sides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 may erode in 4 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rasion/corra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carried by a river will grind against its bed and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slowly wears the bed and sides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Attr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tr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Hydraulic 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turbulence in the wat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nning water causes friction in the joints of rocks in a stream chann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oints may be enlar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osened fragments of rocks get swept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Hydraulic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turbulence in th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 water causes friction in the joints of rocks in a stream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s may be enl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ned fragments of rocks get swept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Solution/Cor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rtain minerals in rocks like limestone can be dissolved in wat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cks are then erod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olution/Cor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 minerals in rocks like limestone can be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are then ero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onship of velocity and sediment size to 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of velocity and sediment size to 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r and heavier rocks/gravels are dragged or rolled along the 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and heavier rocks/gravels are dragged or rolled along the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Saltation (saltim: by leaps/jump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altation (saltim: by leaps/jum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CC2B-F633-4BE5-B48C-321F898F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FB14-70EB-4BC1-8381-30933FAF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9B37-1F5B-4158-A338-D2C42788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1BD1-CB6D-412C-A3F9-A8FE2DDC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BE87-0763-4C2B-89BE-647FB8BC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D422-1990-4FD8-A5A0-A362BA66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D03D-203A-4E17-9B71-41C43DAB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C57A-8666-448E-B0EE-829BB8CE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5D90-DDE9-4A19-ABA4-4C6C7A88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5F3F-840B-4782-A9B1-611404D3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2F65-F6BA-4809-A837-2BD4EBEB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6980-7363-4E10-8603-678F1850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1B55-3F87-48EA-BA8A-9C85B97A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9613-EDC4-4640-A120-BE354DED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84CF-8FAD-474D-8FD5-EE23C2DE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9238-8F45-4C6C-9966-0F4A53B7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B074-A0A0-470E-82B1-582454B0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B258-128B-4080-AD61-F029B010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14B8-65D2-446A-8941-820EA476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1860-8E04-432F-9496-A4AE020E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CB18-F221-4D67-AE9F-559B93DF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447-1CBE-4B6B-AC88-8DF15272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DE7C-B7B9-492D-AD51-1BE81152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9AF-1556-460E-A0B4-E1957EDF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175D-7301-46F1-82EB-76D20D4E6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FD2B-B2FC-4AA6-AF07-7EEE5298B2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09480" y="1676520"/>
            <a:ext cx="76964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functions of riv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2590920"/>
            <a:ext cx="80773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p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of the load like silt and clay (fine-grained) will float al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may only be deposited when stream velocity reaches near 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bulence in the water is crucial in holding a load of sedi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57200" y="2590920"/>
            <a:ext cx="8077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minerals are transported in dissolved 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0880" y="1828800"/>
            <a:ext cx="8229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 will drop its load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de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 de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80880" y="1828800"/>
            <a:ext cx="82296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’s volume decreases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y sea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y region with high 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ce of permeable r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ding flood wa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80880" y="1828800"/>
            <a:ext cx="8229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’s speed decreases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l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calm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gently sloping pl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80880" y="1828800"/>
            <a:ext cx="8229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rk of a river depends on its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a function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of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 of water flow (dependent on gradi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09480" y="1676520"/>
            <a:ext cx="76964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 may erode in 4 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rasion/corra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 carried by a river will grind against its bed and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ocess slowly wears the bed and sides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Text Box 1027"/>
          <p:cNvSpPr/>
          <p:nvPr/>
        </p:nvSpPr>
        <p:spPr>
          <a:xfrm>
            <a:off x="609480" y="1676520"/>
            <a:ext cx="76964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tr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09480" y="1676520"/>
            <a:ext cx="769644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draulic 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rk of turbulence in the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ning water causes friction in the joints of rocks in a stream cha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s may be enlar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sened fragments of rocks get swept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09480" y="1676520"/>
            <a:ext cx="7696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ion/Cor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tain minerals in rocks like limestone can be dissolved in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cks are then ero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1219320"/>
            <a:ext cx="85341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onship of velocity and sediment size to 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river (velocity &amp; load)"/>
          <p:cNvPicPr/>
          <p:nvPr/>
        </p:nvPicPr>
        <p:blipFill>
          <a:blip r:embed="rId1"/>
          <a:stretch/>
        </p:blipFill>
        <p:spPr>
          <a:xfrm>
            <a:off x="1143000" y="2362320"/>
            <a:ext cx="662940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6" descr="river (transport)"/>
          <p:cNvPicPr/>
          <p:nvPr/>
        </p:nvPicPr>
        <p:blipFill>
          <a:blip r:embed="rId1"/>
          <a:stretch/>
        </p:blipFill>
        <p:spPr>
          <a:xfrm>
            <a:off x="990720" y="2514600"/>
            <a:ext cx="6933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57200" y="2590920"/>
            <a:ext cx="8077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r and heavier rocks/gravels are dragged or rolled along the b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57200" y="2590920"/>
            <a:ext cx="8077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ltation 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altim: by leaps/jump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12:44:59Z</dcterms:created>
  <dc:creator>Melvin Chng</dc:creator>
  <dc:description/>
  <dc:language>en-US</dc:language>
  <cp:lastModifiedBy>RomaK</cp:lastModifiedBy>
  <dcterms:modified xsi:type="dcterms:W3CDTF">2015-09-04T09:45:48Z</dcterms:modified>
  <cp:revision>7</cp:revision>
  <dc:subject/>
  <dc:title>The Work of Rivers</dc:title>
</cp:coreProperties>
</file>